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E3CE-4E95-4816-89CB-98147D828DD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cc156"/>
                </a:solidFill>
                <a:latin typeface="Calibri"/>
              </a:rPr>
              <a:t>« Города Эллады подчиняются Македон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9706-F0EB-497A-B1A6-CFA1448125B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фаланге было от 6 до 9 ря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пья были длинной до 2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еческая конница была лёгкой по вооружению и  незначительной по своим размер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фаланге от 16 и более ря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пья были неодинаковой длины: у первого ряда короткие, у второго длиннее, у третьего длиннее, чем у втор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ница была тяжёлой и огром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мели метательные орудия, с помощью которых бросали камни, брёвна и большие стре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62CF-B896-42BD-8F3A-E183E6188DF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ла из 16 ря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воины держали копья впереди себ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ющие клали копья впереди стоящему на плеч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раг заходил с тыла, им нужно было лишь поверну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пья были разной длины, самое большое – 5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7893-67C4-42BD-9DB0-4202B525F4C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мосфен о стратегии Филипп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жде лакедемоняне в течение четырех или пяти месяцев, как раз в самую лучшую пору года, вторгнутся, бывало, опустошат страну противников своими гоплитами, то есть гражданским ополчением, и потом уходят обратно домой… это была какая-то честная и открытая война. Теперь же… большинство дел погубили предатели и ничего не решается выступлениями на поле битвы или правильными сражениями… И я не говорю уж о том, что ему [Филиппу] совершенно безразлично, зима ли стоит в это время или лето, и он не делает изъятия ни для какой поры года и ни в какую пору не приостанавливает свои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508A-B620-4BA7-9A41-CD45A1FCA95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аботаем по учебник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кройте учебник на стр. 188-189 п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. 189- о Демосф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EAB6-29B6-4CAC-A9AC-B03A087C96D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ё было готово к выступлению, но осуществить данный поход Филиппу не удалось. Как вы думаете, почему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Прочитайте об этом самостоятельно  на стр. 189-190.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774C-A88F-423F-9C52-93B6726A06C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те на вопросы в конце парагра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тр. 1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9FE9-50A3-4E94-BEB7-1C30536A8EB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раграф 41, вопросы, записи, задания в рабочей тетра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E6A5-7590-4704-9C6B-1DCF790F7F1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ясним причины упадка Греции, которые в свою очередь стали причиной подчинения её Македон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накомимся с новыми поняти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удем развивать  умение работать с учебником; историческим источни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A8E3-4F7C-4C21-990F-B0A32016D9F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кедонский царь Филипп стрем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корить сосе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Потеря Грецией независ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Приход к власти Алексан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B244-958C-409F-8A3A-A7D194A6DC4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роверяем 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рминологический дикт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F2B6-A8DE-4F23-8DF8-55A83F7E924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атег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) теа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йно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) орхест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ик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) коме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рато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) красноре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агед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0) ск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1145-D52D-46BC-9EBF-0BF81495E22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а, соперничавшие между соб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E691-C17C-4803-8EDF-0CD74624DBC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едонский ц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липп II родился в 382 до н. э. в городе Пелла, столице древней Македонии. Отцом его был царь Аминта III, мать Эвридика происходила из знатного рода Линкестидов, правивших долгое время независимо на северо-западе Македо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260A-7809-4B1E-BC5F-04796064AFF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жаный панци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углый щ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роткий ме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инное копь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2EAE-77C5-469C-9889-E83909B9E7B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57D0-8726-4279-9CE4-DF13A2045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4688-E7D0-4007-BE1E-AA4DC4A5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9F0E-2935-4F5D-ADD7-A098C449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7F05-7BF4-4A5A-B509-DE1227838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DF78-AC35-4402-AD78-40A52DB8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6E4F-B060-4D97-AF9C-5A3584E1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E031-079A-4C5F-9A57-ED5BF4BA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3061-D5F6-46D6-8634-9B0E688D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8CA4-8A34-4303-800E-01C56A45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89BB-7C6A-49AD-8620-19639403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D4A4-282B-428F-98AE-9100BC94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D364-7B2B-494C-A7A8-3F6766DB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7BB1-D4CA-4F0B-8835-9C44CE35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2B1D-E6FB-4672-B882-4FD68C2C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47BE-BA66-49A0-8EA6-EA7497A6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EE62-F06A-4F98-ABDA-5C071CCB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1F8B-3303-4E55-93E5-6243C860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8108-5A0C-45F1-8665-B1F19BA9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849B-52A5-4380-AE0F-4434F84C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8A27-7261-4F94-A210-D1C22B5D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ACC0-6412-4CE4-BB55-457AEA7B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F1E8-BF43-40ED-AC48-DC7BDFD7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FDA2-8234-411B-88A4-06AE9C1B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840A-9650-41AF-A191-95B1049D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1876"/>
            </a:gs>
            <a:gs pos="50000">
              <a:srgbClr val="9933ff"/>
            </a:gs>
            <a:gs pos="100000">
              <a:srgbClr val="47187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7C84-52EA-4E15-9761-2285CF080B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1876"/>
            </a:gs>
            <a:gs pos="50000">
              <a:srgbClr val="9933ff"/>
            </a:gs>
            <a:gs pos="100000">
              <a:srgbClr val="47187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484F-465C-40D3-BA3D-608BB3718D4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Тема урока: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6840" y="2514600"/>
            <a:ext cx="83818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cc156"/>
                </a:solidFill>
                <a:latin typeface="Times New Roman"/>
              </a:rPr>
              <a:t>« Города Эллады подчиняются Македонии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114800" y="4876920"/>
            <a:ext cx="4876920" cy="1371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териал разработан учителем истор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удинской ООШ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тоненковой А.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фаланге было от 6 до 9 ряд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пья были длинной до 2 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реческая конница была лёгкой по вооружению и  незначительной по своим размера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фаланге от 16 и более ряд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пья были неодинаковой длины: у первого ряда короткие, у второго длиннее, у третьего длиннее, чем у второг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ница была тяжёлой и огромн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мели метательные орудия, с помощью которых бросали камни, брёвна и большие стрел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457200" y="228600"/>
            <a:ext cx="8534520" cy="1066680"/>
          </a:xfrm>
          <a:prstGeom prst="rect">
            <a:avLst/>
          </a:prstGeom>
          <a:solidFill>
            <a:srgbClr val="feec9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авним греческую и македонскую арм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стояла из 16 рядов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вые воины держали копья впереди себя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ледующие клали копья впереди стоящему на плечо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враг заходил с тыла, им нужно было лишь повернуться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пья были разной длины, самое большое – 5 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04920" y="228600"/>
            <a:ext cx="8229600" cy="1219320"/>
          </a:xfrm>
          <a:prstGeom prst="rect">
            <a:avLst/>
          </a:prstGeom>
          <a:solidFill>
            <a:srgbClr val="feec9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троение македонской фаланг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Демосфен о стратегии Филипп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жде лакедемоняне в течение четырех или пяти месяцев, как раз в самую лучшую пору года, вторгнутся, бывало, опустошат страну противников своими гоплитами, то есть гражданским ополчением, и потом уходят обратно домой… это была какая-то честная и открытая война. Теперь же… большинство дел погубили предатели и ничего не решается выступлениями на поле битвы или правильными сражениями… И я не говорю уж о том, что ему [Филиппу] совершенно безразлично, зима ли стоит в это время или лето, и он не делает изъятия ни для какой поры года и ни в какую пору не приостанавливает своих действ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оработаем по учебнику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кройте учебник на стр. 188-189 п.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тр. 189- о Демосфен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сё было готово к выступлению, но осуществить данный поход Филиппу не удалось. Как вы думаете, почему?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Прочитайте об этом самостоятельно  на стр. 189-190.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5" descr="230px-Pausanius_assassinates_Philip_during_the_procession_into_the_theatre_by_Andre_Castaigne_%281898-1899%29"/>
          <p:cNvPicPr/>
          <p:nvPr/>
        </p:nvPicPr>
        <p:blipFill>
          <a:blip r:embed="rId1"/>
          <a:stretch/>
        </p:blipFill>
        <p:spPr>
          <a:xfrm>
            <a:off x="609480" y="1523880"/>
            <a:ext cx="3272040" cy="53341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9"/>
          <p:cNvSpPr/>
          <p:nvPr/>
        </p:nvSpPr>
        <p:spPr>
          <a:xfrm>
            <a:off x="457200" y="380880"/>
            <a:ext cx="8077320" cy="91440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бийство Филиппа II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0" y="5943600"/>
            <a:ext cx="396252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бийство Филипп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авсани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ветьте на вопросы в конце параграф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стр. 19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533520" y="457200"/>
            <a:ext cx="8001000" cy="10666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ведём итог уро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Домашнее задани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араграф 41, вопросы, записи, задания в рабочей тетрад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ыясним причины упадка Греции, которые в свою очередь стали причиной подчинения её Македонией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знакомимся с новыми понятиями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удем развивать  умение работать с учебником; историческим источнико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457200" y="380880"/>
            <a:ext cx="8305920" cy="10670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WordArt 6"/>
          <p:cNvSpPr txBox="1"/>
          <p:nvPr/>
        </p:nvSpPr>
        <p:spPr>
          <a:xfrm>
            <a:off x="762120" y="685800"/>
            <a:ext cx="7696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егодня на уроке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495360" y="228600"/>
            <a:ext cx="8153280" cy="914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WordArt 5"/>
          <p:cNvSpPr txBox="1"/>
          <p:nvPr/>
        </p:nvSpPr>
        <p:spPr>
          <a:xfrm>
            <a:off x="2209680" y="380880"/>
            <a:ext cx="4953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лан урок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380880" y="1447920"/>
            <a:ext cx="8382240" cy="4800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акедонский царь Филипп стремит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корить сосед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Потеря Грецией независимо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Приход к власти Александр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152280" y="533520"/>
            <a:ext cx="8305920" cy="914400"/>
          </a:xfrm>
          <a:prstGeom prst="rect">
            <a:avLst/>
          </a:prstGeom>
          <a:solidFill>
            <a:srgbClr val="feec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WordArt 6"/>
          <p:cNvSpPr txBox="1"/>
          <p:nvPr/>
        </p:nvSpPr>
        <p:spPr>
          <a:xfrm>
            <a:off x="380880" y="609480"/>
            <a:ext cx="7772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веряем домашнее задание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1295280" y="2819520"/>
            <a:ext cx="655344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ерминологический диктан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ратег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6) теат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айное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7) орхест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ерикл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8) комед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ратор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9) краснореч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рагедия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0) скен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762120" y="304920"/>
            <a:ext cx="7772400" cy="1066680"/>
          </a:xfrm>
          <a:prstGeom prst="rect">
            <a:avLst/>
          </a:prstGeom>
          <a:solidFill>
            <a:srgbClr val="feec94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оверьте себя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орода, соперничавшие между собо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356724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http://www.touravia.ru/netcat_files/298_44.jpg"/>
          <p:cNvPicPr/>
          <p:nvPr/>
        </p:nvPicPr>
        <p:blipFill>
          <a:blip r:embed="rId1"/>
          <a:stretch/>
        </p:blipFill>
        <p:spPr>
          <a:xfrm>
            <a:off x="304920" y="1600200"/>
            <a:ext cx="4038480" cy="2832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http://tury.pokarmanu.ru/photogallery/sparta-1.jpg"/>
          <p:cNvPicPr/>
          <p:nvPr/>
        </p:nvPicPr>
        <p:blipFill>
          <a:blip r:embed="rId2"/>
          <a:stretch/>
        </p:blipFill>
        <p:spPr>
          <a:xfrm>
            <a:off x="4800600" y="3733920"/>
            <a:ext cx="4038480" cy="26859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0"/>
          <p:cNvSpPr/>
          <p:nvPr/>
        </p:nvSpPr>
        <p:spPr>
          <a:xfrm>
            <a:off x="1600200" y="4495680"/>
            <a:ext cx="1600200" cy="609840"/>
          </a:xfrm>
          <a:prstGeom prst="rect">
            <a:avLst/>
          </a:prstGeom>
          <a:solidFill>
            <a:srgbClr val="feec9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фи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6019920" y="2971800"/>
            <a:ext cx="1523880" cy="609480"/>
          </a:xfrm>
          <a:prstGeom prst="rect">
            <a:avLst/>
          </a:prstGeom>
          <a:solidFill>
            <a:srgbClr val="feec9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ар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12"/>
          <p:cNvSpPr/>
          <p:nvPr/>
        </p:nvSpPr>
        <p:spPr>
          <a:xfrm rot="1938000">
            <a:off x="3657240" y="3886200"/>
            <a:ext cx="1522440" cy="485640"/>
          </a:xfrm>
          <a:prstGeom prst="leftRightArrow">
            <a:avLst>
              <a:gd name="adj1" fmla="val 50000"/>
              <a:gd name="adj2" fmla="val 6240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350028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5" descr="350px-Map_Macedonia_336_BC-r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7"/>
          <p:cNvSpPr/>
          <p:nvPr/>
        </p:nvSpPr>
        <p:spPr>
          <a:xfrm>
            <a:off x="2209680" y="0"/>
            <a:ext cx="2057400" cy="6094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кедо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2514600" y="609480"/>
            <a:ext cx="609480" cy="762120"/>
          </a:xfrm>
          <a:prstGeom prst="downArrow">
            <a:avLst>
              <a:gd name="adj1" fmla="val 50000"/>
              <a:gd name="adj2" fmla="val 31261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акедонский цар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385776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7" descr="http://sputnik.master-telecom.ru/Kultura/rulers.narod.ru/alexander/philip.jpg"/>
          <p:cNvPicPr/>
          <p:nvPr/>
        </p:nvPicPr>
        <p:blipFill>
          <a:blip r:embed="rId1"/>
          <a:stretch/>
        </p:blipFill>
        <p:spPr>
          <a:xfrm>
            <a:off x="609480" y="1163520"/>
            <a:ext cx="3673440" cy="45309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0" y="1295280"/>
            <a:ext cx="41148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илипп II родился в 382 до н. э. в городе Пелла, столице древней Македонии. Отцом его был царь Аминта III, мать Эвридика происходила из знатного рода Линкестидов, правивших долгое время независимо на северо-западе Македони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152280" y="5715000"/>
            <a:ext cx="4191120" cy="914400"/>
          </a:xfrm>
          <a:prstGeom prst="rect">
            <a:avLst/>
          </a:prstGeom>
          <a:solidFill>
            <a:srgbClr val="feec94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илипп 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Шле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ожаный панцир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руглый щи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ороткий ме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линное копь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5" descr="200px-Macedonian_Army_Thessalian"/>
          <p:cNvPicPr/>
          <p:nvPr/>
        </p:nvPicPr>
        <p:blipFill>
          <a:blip r:embed="rId1"/>
          <a:stretch/>
        </p:blipFill>
        <p:spPr>
          <a:xfrm>
            <a:off x="4343400" y="1600200"/>
            <a:ext cx="4191120" cy="3897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3962520" y="5638680"/>
            <a:ext cx="4952880" cy="990720"/>
          </a:xfrm>
          <a:prstGeom prst="rect">
            <a:avLst/>
          </a:prstGeom>
          <a:solidFill>
            <a:srgbClr val="feec94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кедонский кавалерист с саркофаг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лександра Великого (IV в. до н. э.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838080" y="228600"/>
            <a:ext cx="7772400" cy="914400"/>
          </a:xfrm>
          <a:prstGeom prst="rect">
            <a:avLst/>
          </a:prstGeom>
          <a:solidFill>
            <a:srgbClr val="feec94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оружение пехотинце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14T10:14:1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